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0CA-937F-494D-A537-908529F3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899-DA52-408F-88D0-3EFE6C7B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6D7-1CCE-469B-9E45-82F88F7D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60E-1F32-4314-80A7-780C53B6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C61-F81E-4AD9-A9B8-87AD3FCD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2A4-76CD-43FB-9BAE-CFC88496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743-7A58-4D03-A0B7-7E1640EC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075-0727-461F-BC9E-4097F6CA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577-E7DF-4E18-A384-DC0F2328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B19-FBF0-4E48-8B29-60B4274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68A-8DCC-46C7-B074-655FC151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675-6568-4DA9-8629-9B7D59E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5D73-CE12-4063-9A21-2132FD18C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e%20face%20of%20jesuss" descr=""/>
          <p:cNvPicPr/>
          <p:nvPr/>
        </p:nvPicPr>
        <p:blipFill>
          <a:blip r:embed="rId1"/>
          <a:stretch/>
        </p:blipFill>
        <p:spPr>
          <a:xfrm>
            <a:off x="3505320" y="0"/>
            <a:ext cx="567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لتك الغفـران يا من صلب فوق الصليـــب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لتُكَ العَوْن يا من تعذب من أجل أن يحيا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1305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عرفت العذاب فأنقذنــي من ظلمة العـــذا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أغفــر لي وسامحنـي وأمنـح قلبـي ايمانـ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أغلــب به العالم من أجل محبتـــك ... </a:t>
            </a: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آمين</a:t>
            </a:r>
            <a:r>
              <a:rPr b="0" lang="ar-SA" sz="24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35:57Z</dcterms:created>
  <dc:creator>SUZANNE.MD</dc:creator>
  <dc:description/>
  <dc:language>en-US</dc:language>
  <cp:lastModifiedBy>SUZANNE.MD</cp:lastModifiedBy>
  <dcterms:modified xsi:type="dcterms:W3CDTF">2003-03-16T09:41:50Z</dcterms:modified>
  <cp:revision>2</cp:revision>
  <dc:subject/>
  <dc:title>PowerPoint Presentation</dc:title>
</cp:coreProperties>
</file>